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7065-C73F-4D01-85A7-BAD0BAFC7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BF89-FDFE-4C6A-A2DD-CC4E41F693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2600" y="4292640"/>
            <a:ext cx="5073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4257-77AC-4646-A085-357C7ABF88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2600" y="4292640"/>
            <a:ext cx="5073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5C1E-01A5-4F27-81B2-78CADDA0F6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2600" y="4292640"/>
            <a:ext cx="5073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5A50-E1CD-41CD-9A3D-BE7BD3C042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2600" y="4292640"/>
            <a:ext cx="5073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616A-15CE-4BDD-A60F-ACF55EA7F3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2600" y="4292640"/>
            <a:ext cx="5073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082C-3C1F-405A-B5D9-0F0C835632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2600" y="4292640"/>
            <a:ext cx="5073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2212-F6F0-4921-B888-05EB9B1DC2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2600" y="4292640"/>
            <a:ext cx="5073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BAF1-41B9-4384-8D6F-A430D81A49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2600" y="4292640"/>
            <a:ext cx="5073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94BD-0ECD-4DC1-B3DA-5BD773B2CF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2600" y="4292640"/>
            <a:ext cx="5073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1539-47C4-4EFC-BAA5-4DA47AA6D1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2600" y="4292640"/>
            <a:ext cx="5073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1F0F-C347-45D4-93F9-E0DC5C360C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2600" y="4292640"/>
            <a:ext cx="5073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B3C4-372F-4F91-8A5A-12E089D236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2600" y="4292640"/>
            <a:ext cx="5073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167E-F3F5-46AB-B206-4A84A0BEA5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2600" y="4292640"/>
            <a:ext cx="5073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EB0D-DB83-45C5-B5A0-8F35C294AC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2600" y="4292640"/>
            <a:ext cx="5073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1F7-F6B6-4F79-BFD7-790EFEA8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935-4666-4553-A413-F94FFA12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710-4495-4513-8DC6-7B4B19A4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08D-F9A7-43D8-AE92-0061E555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0A47-2B37-4D24-A5D0-B21C9801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8E76-47D0-49FA-A1C2-0980615A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74C5-2DC8-4E0C-8E54-22EE8E92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DA0B-5040-4943-B7A5-54DBCCC9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7C0D-F2EA-4340-BE8F-D35C2875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175E-5523-48BC-B82B-5676B31A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FB51-018F-4A5C-933C-3ED63289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2F0-6D0E-4571-B46E-B8F4C14C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EC79-5640-496C-B35C-526A3F9C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C812-AB63-4025-B9D2-D1726E56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7C92-C2D0-438A-840A-4C7272CC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EAA3-B1F6-45BA-B012-542BC674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ED8E-6F58-4616-8413-F0B89BC4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7C3-89B6-4A07-AE2D-05997102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B7CF-E7BC-49EE-8217-52A3B165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27BE-087B-4BE4-8212-78AA4D18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F9A8-15A2-4AA8-8BEB-CEFEE66E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B3DC-A2D2-49B6-AEC9-21B2BAB7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F415-CF3F-4402-A18C-73C81AF0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C1F-76C9-4835-9BF7-9BDED4F8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DBE1-5B4B-4478-BE5B-33795AA24F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3212-64ED-438D-B8E5-5282A52B0C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Komplikacije u anestezij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neumotorax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Vršni inspiratorni pritisak preko 60 cmH2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Neispravna inspiratorna i ekspiratorna valvula na aparatu za anesteziju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neispravan sigurnosni venti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Operacije na vratu, traheotomija, strumektomija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radikalne disekcije vrata, CPCR, perforacije jednjaka i hipofarink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Povrede grudnog koš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ahoma"/>
              </a:rPr>
              <a:t>Plasiranja CVK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lok pl. brachial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dem pluc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Kardiološki bolesni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Plućne bolesti (upa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Preterani unos t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Loša bubrežna funk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zroci hipoksemij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dovoljna conc O2  koja se udiš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Hipoventil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odgovarajuća ventil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laba perfuz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aligna hiperterm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ethemoglobinem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Neadekvatno uklanjanje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Hipoventil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Loš apsorber (soda-lim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ovećanje mrtvog prost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Laparaskopske intervenc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ovećano stvara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(hiperpireksija, hipertireoza, sepsa, interakcije lekova, maligna hiperterm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932040" y="403200"/>
            <a:ext cx="7551720" cy="130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20000"/>
              </a:gs>
              <a:gs pos="100000">
                <a:srgbClr val="000047">
                  <a:alpha val="0"/>
                </a:srgbClr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28760" y="624960"/>
            <a:ext cx="6492960" cy="744840"/>
          </a:xfrm>
          <a:prstGeom prst="rect">
            <a:avLst/>
          </a:prstGeom>
          <a:noFill/>
          <a:ln w="0">
            <a:noFill/>
          </a:ln>
        </p:spPr>
        <p:txBody>
          <a:bodyPr rIns="0" tIns="22860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imes New Roman"/>
              </a:rPr>
              <a:t>KARDIOVASKULARNI  SIST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826920" y="2276640"/>
            <a:ext cx="5473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hikard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adikard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itm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potenz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pertenz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bol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hemija miokar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1440000" y="422280"/>
            <a:ext cx="6298920" cy="130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20000"/>
              </a:gs>
              <a:gs pos="100000">
                <a:srgbClr val="000047">
                  <a:alpha val="0"/>
                </a:srgbClr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44480" y="587520"/>
            <a:ext cx="5267160" cy="753840"/>
          </a:xfrm>
          <a:prstGeom prst="rect">
            <a:avLst/>
          </a:prstGeom>
          <a:noFill/>
          <a:ln w="0">
            <a:noFill/>
          </a:ln>
        </p:spPr>
        <p:txBody>
          <a:bodyPr rIns="0" tIns="22860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Times New Roman"/>
              </a:rPr>
              <a:t>BRADIKARDIJ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AutoShape 4"/>
          <p:cNvSpPr/>
          <p:nvPr/>
        </p:nvSpPr>
        <p:spPr>
          <a:xfrm rot="5400000">
            <a:off x="4224600" y="768960"/>
            <a:ext cx="731880" cy="4165560"/>
          </a:xfrm>
          <a:prstGeom prst="bevel">
            <a:avLst>
              <a:gd name="adj" fmla="val 50000"/>
            </a:avLst>
          </a:pr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411360" y="2486160"/>
            <a:ext cx="2329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c0000"/>
                </a:solidFill>
                <a:latin typeface="Times New Roman"/>
              </a:rPr>
              <a:t>upotreba leko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6"/>
          <p:cNvSpPr/>
          <p:nvPr/>
        </p:nvSpPr>
        <p:spPr>
          <a:xfrm rot="5400000">
            <a:off x="4221720" y="1499040"/>
            <a:ext cx="731880" cy="4165560"/>
          </a:xfrm>
          <a:prstGeom prst="bevel">
            <a:avLst>
              <a:gd name="adj" fmla="val 50000"/>
            </a:avLst>
          </a:pr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7"/>
          <p:cNvSpPr/>
          <p:nvPr/>
        </p:nvSpPr>
        <p:spPr>
          <a:xfrm rot="5400000">
            <a:off x="4221720" y="2213280"/>
            <a:ext cx="731880" cy="4165560"/>
          </a:xfrm>
          <a:prstGeom prst="bevel">
            <a:avLst>
              <a:gd name="adj" fmla="val 50000"/>
            </a:avLst>
          </a:pr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8"/>
          <p:cNvSpPr/>
          <p:nvPr/>
        </p:nvSpPr>
        <p:spPr>
          <a:xfrm rot="5400000">
            <a:off x="4221720" y="2918160"/>
            <a:ext cx="731880" cy="4165560"/>
          </a:xfrm>
          <a:prstGeom prst="bevel">
            <a:avLst>
              <a:gd name="adj" fmla="val 50000"/>
            </a:avLst>
          </a:pr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425760" y="3197160"/>
            <a:ext cx="2328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c0000"/>
                </a:solidFill>
                <a:latin typeface="Times New Roman"/>
              </a:rPr>
              <a:t>duboka anestezi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3425760" y="3911760"/>
            <a:ext cx="2328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c0000"/>
                </a:solidFill>
                <a:latin typeface="Times New Roman"/>
              </a:rPr>
              <a:t>hirurške manipulaci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3425760" y="4616280"/>
            <a:ext cx="2328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c0000"/>
                </a:solidFill>
                <a:latin typeface="Times New Roman"/>
              </a:rPr>
              <a:t>hipotermi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12"/>
          <p:cNvSpPr/>
          <p:nvPr/>
        </p:nvSpPr>
        <p:spPr>
          <a:xfrm rot="5400000">
            <a:off x="4218480" y="3629880"/>
            <a:ext cx="731880" cy="4165560"/>
          </a:xfrm>
          <a:prstGeom prst="bevel">
            <a:avLst>
              <a:gd name="adj" fmla="val 50000"/>
            </a:avLst>
          </a:pr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3432240" y="5327640"/>
            <a:ext cx="2327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c0000"/>
                </a:solidFill>
                <a:latin typeface="Times New Roman"/>
              </a:rPr>
              <a:t>hipotireoz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 flipV="1">
            <a:off x="1963800" y="-720"/>
            <a:ext cx="5216400" cy="5730840"/>
          </a:xfrm>
          <a:prstGeom prst="rect">
            <a:avLst/>
          </a:prstGeom>
          <a:gradFill rotWithShape="0">
            <a:gsLst>
              <a:gs pos="0">
                <a:srgbClr val="be7960"/>
              </a:gs>
              <a:gs pos="100000">
                <a:srgbClr val="58382c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1440000" y="422280"/>
            <a:ext cx="6298920" cy="130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20000"/>
              </a:gs>
              <a:gs pos="100000">
                <a:srgbClr val="000047">
                  <a:alpha val="0"/>
                </a:srgbClr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2800" y="547560"/>
            <a:ext cx="3038400" cy="812880"/>
          </a:xfrm>
          <a:prstGeom prst="rect">
            <a:avLst/>
          </a:prstGeom>
          <a:noFill/>
          <a:ln w="0">
            <a:noFill/>
          </a:ln>
        </p:spPr>
        <p:txBody>
          <a:bodyPr rIns="0" tIns="22860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Times New Roman"/>
              </a:rPr>
              <a:t>ARITMIJE</a:t>
            </a:r>
            <a:r>
              <a:rPr b="0" lang="hr-HR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190600" y="1872000"/>
            <a:ext cx="4756320" cy="393336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7960"/>
                </a:solidFill>
                <a:latin typeface="Times New Roman"/>
                <a:ea typeface="Times New Roman"/>
              </a:rPr>
              <a:t>*</a:t>
            </a:r>
            <a:r>
              <a:rPr b="0" lang="sr-Latn-CS" sz="2800" spc="-1" strike="noStrike">
                <a:solidFill>
                  <a:srgbClr val="be796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be7960"/>
                </a:solidFill>
                <a:latin typeface="Times New Roman"/>
              </a:rPr>
              <a:t>hiper/hipokapn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7960"/>
                </a:solidFill>
                <a:latin typeface="Times New Roman"/>
              </a:rPr>
              <a:t>*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be7960"/>
                </a:solidFill>
                <a:latin typeface="Times New Roman"/>
              </a:rPr>
              <a:t>hipoksem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7960"/>
                </a:solidFill>
                <a:latin typeface="Times New Roman"/>
              </a:rPr>
              <a:t>*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be7960"/>
                </a:solidFill>
                <a:latin typeface="Times New Roman"/>
              </a:rPr>
              <a:t>neadekvatna anestezija/ analgez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7960"/>
                </a:solidFill>
                <a:latin typeface="Times New Roman"/>
              </a:rPr>
              <a:t>*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be7960"/>
                </a:solidFill>
                <a:latin typeface="Times New Roman"/>
              </a:rPr>
              <a:t>hipertireo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7960"/>
                </a:solidFill>
                <a:latin typeface="Times New Roman"/>
              </a:rPr>
              <a:t>*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be7960"/>
                </a:solidFill>
                <a:latin typeface="Times New Roman"/>
              </a:rPr>
              <a:t>hipotenz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7960"/>
                </a:solidFill>
                <a:latin typeface="Times New Roman"/>
              </a:rPr>
              <a:t>*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be7960"/>
                </a:solidFill>
                <a:latin typeface="Times New Roman"/>
              </a:rPr>
              <a:t>hipo/hiper K</a:t>
            </a:r>
            <a:r>
              <a:rPr b="1" lang="sr-Latn-CS" sz="2800" spc="-1" strike="noStrike" baseline="30000">
                <a:solidFill>
                  <a:srgbClr val="be796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7960"/>
                </a:solidFill>
                <a:latin typeface="Times New Roman"/>
              </a:rPr>
              <a:t>*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be7960"/>
                </a:solidFill>
                <a:latin typeface="Times New Roman"/>
              </a:rPr>
              <a:t>hirurške manipulac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7960"/>
                </a:solidFill>
                <a:latin typeface="Times New Roman"/>
              </a:rPr>
              <a:t>*</a:t>
            </a:r>
            <a:r>
              <a:rPr b="0" lang="sr-Latn-CS" sz="2800" spc="-1" strike="noStrike">
                <a:solidFill>
                  <a:srgbClr val="be7960"/>
                </a:solidFill>
                <a:latin typeface="Times New Roman"/>
              </a:rPr>
              <a:t> ishemija miokar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963800" y="5724360"/>
            <a:ext cx="5216400" cy="590760"/>
          </a:xfrm>
          <a:prstGeom prst="rect">
            <a:avLst/>
          </a:prstGeom>
          <a:solidFill>
            <a:srgbClr val="be7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8c0000"/>
                </a:solidFill>
                <a:latin typeface="Times New Roman"/>
              </a:rPr>
              <a:t>Blok I, II, III</a:t>
            </a:r>
            <a:r>
              <a:rPr b="0" lang="sr-Latn-CS" sz="2400" spc="-1" strike="noStrike" baseline="30000">
                <a:solidFill>
                  <a:srgbClr val="8c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963800" y="6305400"/>
            <a:ext cx="5216400" cy="552600"/>
          </a:xfrm>
          <a:prstGeom prst="rect">
            <a:avLst/>
          </a:prstGeom>
          <a:gradFill rotWithShape="0">
            <a:gsLst>
              <a:gs pos="0">
                <a:srgbClr val="be7960"/>
              </a:gs>
              <a:gs pos="100000">
                <a:srgbClr val="58382c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 rot="10800000">
            <a:off x="2433600" y="2179800"/>
            <a:ext cx="495360" cy="4100400"/>
          </a:xfrm>
          <a:prstGeom prst="rect">
            <a:avLst/>
          </a:prstGeom>
          <a:gradFill rotWithShape="0">
            <a:gsLst>
              <a:gs pos="0">
                <a:srgbClr val="761676">
                  <a:alpha val="0"/>
                </a:srgbClr>
              </a:gs>
              <a:gs pos="100000">
                <a:srgbClr val="ff2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440000" y="422280"/>
            <a:ext cx="6298920" cy="130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20000"/>
              </a:gs>
              <a:gs pos="100000">
                <a:srgbClr val="000047">
                  <a:alpha val="0"/>
                </a:srgbClr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HIPERTENZ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378160" y="2147400"/>
            <a:ext cx="6219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ff00"/>
                </a:solidFill>
                <a:latin typeface="GreekMathSymbols"/>
                <a:ea typeface="GreekMathSymbols"/>
              </a:rPr>
              <a:t></a:t>
            </a: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ne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dijagnostikova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ff00"/>
                </a:solidFill>
                <a:latin typeface="GreekMathSymbols"/>
                <a:ea typeface="GreekMathSymbols"/>
              </a:rPr>
              <a:t>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loše regulis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ff00"/>
                </a:solidFill>
                <a:latin typeface="GreekMathSymbols"/>
                <a:ea typeface="GreekMathSymbols"/>
              </a:rPr>
              <a:t>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neadekvatna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anestezija/ analgez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ff00"/>
                </a:solidFill>
                <a:latin typeface="GreekMathSymbols"/>
                <a:ea typeface="GreekMathSymbols"/>
              </a:rPr>
              <a:t>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prekid antihipertenzivnih lek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ff00"/>
                </a:solidFill>
                <a:latin typeface="GreekMathSymbols"/>
                <a:ea typeface="GreekMathSymbols"/>
              </a:rPr>
              <a:t>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hiperkapn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ff00"/>
                </a:solidFill>
                <a:latin typeface="GreekMathSymbols"/>
                <a:ea typeface="GreekMathSymbols"/>
              </a:rPr>
              <a:t>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hipoksem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ff00"/>
                </a:solidFill>
                <a:latin typeface="GreekMathSymbols"/>
                <a:ea typeface="GreekMathSymbols"/>
              </a:rPr>
              <a:t></a:t>
            </a:r>
            <a:r>
              <a:rPr b="1" lang="sr-Latn-CS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feohromoci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ff00"/>
                </a:solidFill>
                <a:latin typeface="GreekMathSymbols"/>
                <a:ea typeface="GreekMathSymbols"/>
              </a:rPr>
              <a:t></a:t>
            </a:r>
            <a:r>
              <a:rPr b="1" lang="sr-Latn-CS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hipervolem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 rot="10800000">
            <a:off x="2433600" y="2179800"/>
            <a:ext cx="495360" cy="4100400"/>
          </a:xfrm>
          <a:prstGeom prst="rect">
            <a:avLst/>
          </a:prstGeom>
          <a:gradFill rotWithShape="0">
            <a:gsLst>
              <a:gs pos="0">
                <a:srgbClr val="761676">
                  <a:alpha val="0"/>
                </a:srgbClr>
              </a:gs>
              <a:gs pos="100000">
                <a:srgbClr val="ff2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4175280" y="415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545796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309760" y="2213640"/>
            <a:ext cx="5533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ff00"/>
                </a:solidFill>
                <a:latin typeface="GreekMathSymbols"/>
                <a:ea typeface="GreekMathSymbols"/>
              </a:rPr>
              <a:t></a:t>
            </a: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položaj bolesn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ff00"/>
                </a:solidFill>
                <a:latin typeface="GreekMathSymbols"/>
                <a:ea typeface="GreekMathSymbols"/>
              </a:rPr>
              <a:t>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hipovolem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povećan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intratorakalni pritis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slaba kontraktilnost miokar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ff00"/>
                </a:solidFill>
                <a:latin typeface="GreekMathSymbols"/>
                <a:ea typeface="GreekMathSymbols"/>
              </a:rPr>
              <a:t>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aritm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ff00"/>
                </a:solidFill>
                <a:latin typeface="GreekMathSymbols"/>
                <a:ea typeface="GreekMathSymbols"/>
              </a:rPr>
              <a:t>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vazodilatacija (lekov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ff00"/>
                </a:solidFill>
                <a:latin typeface="GreekMathSymbols"/>
                <a:ea typeface="GreekMathSymbols"/>
              </a:rPr>
              <a:t></a:t>
            </a:r>
            <a:r>
              <a:rPr b="1" lang="sr-Latn-CS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preosetljivost na lek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ff00"/>
                </a:solidFill>
                <a:latin typeface="GreekMathSymbols"/>
                <a:ea typeface="GreekMathSymbols"/>
              </a:rPr>
              <a:t></a:t>
            </a:r>
            <a:r>
              <a:rPr b="1" lang="sr-Latn-CS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sep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1440000" y="422280"/>
            <a:ext cx="6298920" cy="130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20000"/>
              </a:gs>
              <a:gs pos="100000">
                <a:srgbClr val="000047">
                  <a:alpha val="0"/>
                </a:srgbClr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HIPOTENZ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2"/>
          <p:cNvSpPr/>
          <p:nvPr/>
        </p:nvSpPr>
        <p:spPr>
          <a:xfrm>
            <a:off x="2268360" y="3817800"/>
            <a:ext cx="2768760" cy="960480"/>
          </a:xfrm>
          <a:prstGeom prst="ellipse">
            <a:avLst/>
          </a:prstGeom>
          <a:gradFill rotWithShape="0">
            <a:gsLst>
              <a:gs pos="0">
                <a:srgbClr val="a00000"/>
              </a:gs>
              <a:gs pos="100000">
                <a:srgbClr val="4a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Oval 3"/>
          <p:cNvSpPr/>
          <p:nvPr/>
        </p:nvSpPr>
        <p:spPr>
          <a:xfrm>
            <a:off x="2268360" y="4773600"/>
            <a:ext cx="2768760" cy="960480"/>
          </a:xfrm>
          <a:prstGeom prst="ellipse">
            <a:avLst/>
          </a:prstGeom>
          <a:gradFill rotWithShape="0">
            <a:gsLst>
              <a:gs pos="0">
                <a:srgbClr val="a00000"/>
              </a:gs>
              <a:gs pos="100000">
                <a:srgbClr val="4a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2268360" y="2871720"/>
            <a:ext cx="2768760" cy="960480"/>
          </a:xfrm>
          <a:prstGeom prst="ellipse">
            <a:avLst/>
          </a:prstGeom>
          <a:gradFill rotWithShape="0">
            <a:gsLst>
              <a:gs pos="0">
                <a:srgbClr val="a00000"/>
              </a:gs>
              <a:gs pos="100000">
                <a:srgbClr val="4a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1422360" y="479520"/>
            <a:ext cx="6307200" cy="130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20000"/>
              </a:gs>
              <a:gs pos="100000">
                <a:srgbClr val="000047">
                  <a:alpha val="0"/>
                </a:srgbClr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ISHEMIJA MIOKAR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906280" y="2990880"/>
            <a:ext cx="2256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e7960"/>
                </a:solidFill>
                <a:latin typeface="Arial"/>
              </a:rPr>
              <a:t>hipertenz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e7960"/>
                </a:solidFill>
                <a:latin typeface="Arial"/>
              </a:rPr>
              <a:t>hipotenz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e7960"/>
                </a:solidFill>
                <a:latin typeface="Arial"/>
              </a:rPr>
              <a:t>tahikard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8255160" y="5742000"/>
            <a:ext cx="888840" cy="998640"/>
          </a:xfrm>
          <a:prstGeom prst="ellipse">
            <a:avLst/>
          </a:prstGeom>
          <a:gradFill rotWithShape="0">
            <a:gsLst>
              <a:gs pos="0">
                <a:srgbClr val="a00000"/>
              </a:gs>
              <a:gs pos="100000">
                <a:srgbClr val="4a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7867800" y="5532480"/>
            <a:ext cx="888840" cy="998640"/>
          </a:xfrm>
          <a:prstGeom prst="ellipse">
            <a:avLst/>
          </a:prstGeom>
          <a:gradFill rotWithShape="0">
            <a:gsLst>
              <a:gs pos="0">
                <a:srgbClr val="a00000"/>
              </a:gs>
              <a:gs pos="100000">
                <a:srgbClr val="4a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Oval 9"/>
          <p:cNvSpPr/>
          <p:nvPr/>
        </p:nvSpPr>
        <p:spPr>
          <a:xfrm>
            <a:off x="7496280" y="5303880"/>
            <a:ext cx="888840" cy="998640"/>
          </a:xfrm>
          <a:prstGeom prst="ellipse">
            <a:avLst/>
          </a:prstGeom>
          <a:gradFill rotWithShape="0">
            <a:gsLst>
              <a:gs pos="0">
                <a:srgbClr val="a00000"/>
              </a:gs>
              <a:gs pos="100000">
                <a:srgbClr val="4a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imes New Roman"/>
              </a:rPr>
              <a:t>KOMPLIKACIJ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NIVO ZNANJ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PREOPERATIVNA PRIPRE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OPRE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911240" y="1932120"/>
            <a:ext cx="16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1428840" y="447840"/>
            <a:ext cx="6299280" cy="130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20000"/>
              </a:gs>
              <a:gs pos="100000">
                <a:srgbClr val="000047">
                  <a:alpha val="0"/>
                </a:srgbClr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EMBOL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173760" y="2647800"/>
            <a:ext cx="442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e7960"/>
                </a:solidFill>
                <a:latin typeface="Arial"/>
              </a:rPr>
              <a:t>neurohirurške oper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e7960"/>
                </a:solidFill>
                <a:latin typeface="Arial"/>
              </a:rPr>
              <a:t>operacije na 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e7960"/>
                </a:solidFill>
                <a:latin typeface="Arial"/>
              </a:rPr>
              <a:t>mastoi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e7960"/>
                </a:solidFill>
                <a:latin typeface="Arial"/>
              </a:rPr>
              <a:t>sinu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Oval 5"/>
          <p:cNvSpPr/>
          <p:nvPr/>
        </p:nvSpPr>
        <p:spPr>
          <a:xfrm>
            <a:off x="2692440" y="2868480"/>
            <a:ext cx="888840" cy="169920"/>
          </a:xfrm>
          <a:prstGeom prst="ellipse">
            <a:avLst/>
          </a:prstGeom>
          <a:gradFill rotWithShape="0">
            <a:gsLst>
              <a:gs pos="0">
                <a:srgbClr val="a00000"/>
              </a:gs>
              <a:gs pos="100000">
                <a:srgbClr val="4a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Oval 6"/>
          <p:cNvSpPr/>
          <p:nvPr/>
        </p:nvSpPr>
        <p:spPr>
          <a:xfrm>
            <a:off x="2681280" y="3875040"/>
            <a:ext cx="888840" cy="150840"/>
          </a:xfrm>
          <a:prstGeom prst="ellipse">
            <a:avLst/>
          </a:prstGeom>
          <a:gradFill rotWithShape="0">
            <a:gsLst>
              <a:gs pos="0">
                <a:srgbClr val="a00000"/>
              </a:gs>
              <a:gs pos="100000">
                <a:srgbClr val="4a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2660760" y="4862520"/>
            <a:ext cx="888840" cy="150840"/>
          </a:xfrm>
          <a:prstGeom prst="ellipse">
            <a:avLst/>
          </a:prstGeom>
          <a:gradFill rotWithShape="0">
            <a:gsLst>
              <a:gs pos="0">
                <a:srgbClr val="a00000"/>
              </a:gs>
              <a:gs pos="100000">
                <a:srgbClr val="4a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2649600" y="5802480"/>
            <a:ext cx="888840" cy="150480"/>
          </a:xfrm>
          <a:prstGeom prst="ellipse">
            <a:avLst/>
          </a:prstGeom>
          <a:gradFill rotWithShape="0">
            <a:gsLst>
              <a:gs pos="0">
                <a:srgbClr val="a00000"/>
              </a:gs>
              <a:gs pos="100000">
                <a:srgbClr val="4a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 flipH="1">
            <a:off x="4603680" y="2039760"/>
            <a:ext cx="4540320" cy="48182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c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2039760"/>
            <a:ext cx="4554360" cy="48182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c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1428840" y="428760"/>
            <a:ext cx="6324480" cy="130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20000"/>
              </a:gs>
              <a:gs pos="100000">
                <a:srgbClr val="000047">
                  <a:alpha val="0"/>
                </a:srgbClr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EMBOL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33920" y="2638440"/>
            <a:ext cx="442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e7960"/>
                </a:solidFill>
                <a:latin typeface="Arial"/>
              </a:rPr>
              <a:t>neurohirurške oper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e7960"/>
                </a:solidFill>
                <a:latin typeface="Arial"/>
              </a:rPr>
              <a:t>operacije na 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e7960"/>
                </a:solidFill>
                <a:latin typeface="Arial"/>
              </a:rPr>
              <a:t>mastoi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e7960"/>
                </a:solidFill>
                <a:latin typeface="Arial"/>
              </a:rPr>
              <a:t>sinu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4423680" y="2619360"/>
            <a:ext cx="4829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9900"/>
                </a:solidFill>
                <a:latin typeface="Arial"/>
              </a:rPr>
              <a:t>količina vazdu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9900"/>
                </a:solidFill>
                <a:latin typeface="Arial"/>
              </a:rPr>
              <a:t>brzina ulas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9900"/>
                </a:solidFill>
                <a:latin typeface="Arial"/>
              </a:rPr>
              <a:t>lokaliz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9900"/>
                </a:solidFill>
                <a:latin typeface="Arial"/>
              </a:rPr>
              <a:t>stanja i položaja pacije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 flipH="1">
            <a:off x="4603680" y="2179800"/>
            <a:ext cx="4540320" cy="4678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c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0" y="2179800"/>
            <a:ext cx="4554360" cy="4678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c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-8280" y="2428920"/>
            <a:ext cx="471924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e7960"/>
                </a:solidFill>
                <a:latin typeface="Arial"/>
              </a:rPr>
              <a:t>hipotenz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e7960"/>
                </a:solidFill>
                <a:latin typeface="Arial"/>
              </a:rPr>
              <a:t>ventrikularna tahiaritm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e7960"/>
                </a:solidFill>
                <a:latin typeface="Arial"/>
              </a:rPr>
              <a:t>akutna plućna disfunk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e7960"/>
                </a:solidFill>
                <a:latin typeface="Arial"/>
              </a:rPr>
              <a:t>porast CO</a:t>
            </a:r>
            <a:r>
              <a:rPr b="0" lang="sr-Latn-CS" sz="3200" spc="-1" strike="noStrike" baseline="-25000">
                <a:solidFill>
                  <a:srgbClr val="be796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be7960"/>
                </a:solidFill>
                <a:latin typeface="Arial"/>
              </a:rPr>
              <a:t> ; pad O</a:t>
            </a:r>
            <a:r>
              <a:rPr b="0" lang="sr-Latn-CS" sz="3200" spc="-1" strike="noStrike" baseline="-25000">
                <a:solidFill>
                  <a:srgbClr val="be796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4821480" y="2390760"/>
            <a:ext cx="372852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9900"/>
                </a:solidFill>
                <a:latin typeface="Arial"/>
              </a:rPr>
              <a:t>100% O</a:t>
            </a:r>
            <a:r>
              <a:rPr b="0" lang="sr-Latn-CS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9900"/>
                </a:solidFill>
                <a:latin typeface="Arial"/>
              </a:rPr>
              <a:t>brza infuz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9900"/>
                </a:solidFill>
                <a:latin typeface="Arial"/>
              </a:rPr>
              <a:t>okretanje pacije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9900"/>
                </a:solidFill>
                <a:latin typeface="Arial"/>
              </a:rPr>
              <a:t>aspiracija kroz CV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1411200" y="419040"/>
            <a:ext cx="6324840" cy="130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20000"/>
              </a:gs>
              <a:gs pos="100000">
                <a:srgbClr val="000047">
                  <a:alpha val="0"/>
                </a:srgbClr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EMBOL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1428840" y="409680"/>
            <a:ext cx="6289560" cy="130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20000"/>
              </a:gs>
              <a:gs pos="100000">
                <a:srgbClr val="000047">
                  <a:alpha val="0"/>
                </a:srgbClr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G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415160" y="3038400"/>
            <a:ext cx="573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e7960"/>
                </a:solidFill>
                <a:latin typeface="Arial"/>
              </a:rPr>
              <a:t>aspiracija želudačnog sadrža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e7960"/>
                </a:solidFill>
                <a:latin typeface="Arial"/>
              </a:rPr>
              <a:t>štuc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1374840" y="2951280"/>
            <a:ext cx="888840" cy="998280"/>
          </a:xfrm>
          <a:prstGeom prst="ellipse">
            <a:avLst/>
          </a:prstGeom>
          <a:gradFill rotWithShape="0">
            <a:gsLst>
              <a:gs pos="0">
                <a:srgbClr val="a00000"/>
              </a:gs>
              <a:gs pos="100000">
                <a:srgbClr val="4a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Oval 5"/>
          <p:cNvSpPr/>
          <p:nvPr/>
        </p:nvSpPr>
        <p:spPr>
          <a:xfrm>
            <a:off x="3014640" y="3871800"/>
            <a:ext cx="889200" cy="998640"/>
          </a:xfrm>
          <a:prstGeom prst="ellipse">
            <a:avLst/>
          </a:prstGeom>
          <a:gradFill rotWithShape="0">
            <a:gsLst>
              <a:gs pos="0">
                <a:srgbClr val="a00000"/>
              </a:gs>
              <a:gs pos="100000">
                <a:srgbClr val="4a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1428840" y="438120"/>
            <a:ext cx="6289560" cy="1225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20000"/>
              </a:gs>
              <a:gs pos="100000">
                <a:srgbClr val="000047">
                  <a:alpha val="0"/>
                </a:srgbClr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NERVNI   SIST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2764440" y="3038400"/>
            <a:ext cx="304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e7960"/>
                </a:solidFill>
                <a:latin typeface="Arial"/>
              </a:rPr>
              <a:t>krvare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e7960"/>
                </a:solidFill>
                <a:latin typeface="Arial"/>
              </a:rPr>
              <a:t>oštećenje ner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Oval 4"/>
          <p:cNvSpPr/>
          <p:nvPr/>
        </p:nvSpPr>
        <p:spPr>
          <a:xfrm rot="2616600">
            <a:off x="2455560" y="3938760"/>
            <a:ext cx="822240" cy="998280"/>
          </a:xfrm>
          <a:prstGeom prst="ellipse">
            <a:avLst/>
          </a:prstGeom>
          <a:gradFill rotWithShape="0">
            <a:gsLst>
              <a:gs pos="0">
                <a:srgbClr val="a00000"/>
              </a:gs>
              <a:gs pos="100000">
                <a:srgbClr val="4a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Oval 5"/>
          <p:cNvSpPr/>
          <p:nvPr/>
        </p:nvSpPr>
        <p:spPr>
          <a:xfrm rot="18582600">
            <a:off x="2794680" y="2903760"/>
            <a:ext cx="1000440" cy="836640"/>
          </a:xfrm>
          <a:prstGeom prst="ellipse">
            <a:avLst/>
          </a:prstGeom>
          <a:gradFill rotWithShape="0">
            <a:gsLst>
              <a:gs pos="0">
                <a:srgbClr val="a00000"/>
              </a:gs>
              <a:gs pos="100000">
                <a:srgbClr val="4a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1428840" y="399960"/>
            <a:ext cx="6281640" cy="130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20000"/>
              </a:gs>
              <a:gs pos="100000">
                <a:srgbClr val="000047">
                  <a:alpha val="0"/>
                </a:srgbClr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OSTALO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3"/>
          <p:cNvSpPr/>
          <p:nvPr/>
        </p:nvSpPr>
        <p:spPr>
          <a:xfrm rot="16200000">
            <a:off x="7116120" y="1037160"/>
            <a:ext cx="772920" cy="3282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6765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4"/>
          <p:cNvSpPr/>
          <p:nvPr/>
        </p:nvSpPr>
        <p:spPr>
          <a:xfrm rot="16200000">
            <a:off x="6804720" y="1870920"/>
            <a:ext cx="773280" cy="3905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6765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5"/>
          <p:cNvSpPr/>
          <p:nvPr/>
        </p:nvSpPr>
        <p:spPr>
          <a:xfrm rot="16200000">
            <a:off x="6926400" y="3141360"/>
            <a:ext cx="772920" cy="3662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6765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6"/>
          <p:cNvSpPr/>
          <p:nvPr/>
        </p:nvSpPr>
        <p:spPr>
          <a:xfrm rot="16200000">
            <a:off x="7669800" y="5034600"/>
            <a:ext cx="773280" cy="2174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6765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1446120" y="2293920"/>
            <a:ext cx="4591080" cy="770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aligna hiperterm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2298600" y="3433680"/>
            <a:ext cx="3100320" cy="770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ipoterm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AutoShape 9"/>
          <p:cNvSpPr/>
          <p:nvPr/>
        </p:nvSpPr>
        <p:spPr>
          <a:xfrm>
            <a:off x="3346560" y="4592520"/>
            <a:ext cx="2328840" cy="770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lerg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AutoShape 10"/>
          <p:cNvSpPr/>
          <p:nvPr/>
        </p:nvSpPr>
        <p:spPr>
          <a:xfrm>
            <a:off x="4359240" y="5732640"/>
            <a:ext cx="2752920" cy="769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ud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1428840" y="399960"/>
            <a:ext cx="6299280" cy="130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20000"/>
              </a:gs>
              <a:gs pos="100000">
                <a:srgbClr val="000047">
                  <a:alpha val="0"/>
                </a:srgbClr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OSTALO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3"/>
          <p:cNvSpPr/>
          <p:nvPr/>
        </p:nvSpPr>
        <p:spPr>
          <a:xfrm rot="16200000">
            <a:off x="6758640" y="800280"/>
            <a:ext cx="772920" cy="3997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6765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4"/>
          <p:cNvSpPr/>
          <p:nvPr/>
        </p:nvSpPr>
        <p:spPr>
          <a:xfrm rot="16200000">
            <a:off x="6849360" y="2218320"/>
            <a:ext cx="763560" cy="3825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6765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5"/>
          <p:cNvSpPr/>
          <p:nvPr/>
        </p:nvSpPr>
        <p:spPr>
          <a:xfrm rot="16200000">
            <a:off x="7870680" y="4604760"/>
            <a:ext cx="763560" cy="1782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6765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1565280" y="2417760"/>
            <a:ext cx="3760920" cy="770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judska greš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2687760" y="3747960"/>
            <a:ext cx="2805120" cy="770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pr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3855960" y="5110200"/>
            <a:ext cx="3657600" cy="770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avanje lek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2"/>
          <p:cNvSpPr/>
          <p:nvPr/>
        </p:nvSpPr>
        <p:spPr>
          <a:xfrm>
            <a:off x="1428840" y="399960"/>
            <a:ext cx="6299280" cy="130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20000"/>
              </a:gs>
              <a:gs pos="100000">
                <a:srgbClr val="000047">
                  <a:alpha val="0"/>
                </a:srgbClr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comic"/>
              </a:rPr>
              <a:t>ANESTEZIJ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5" name="Object 3"/>
          <p:cNvGraphicFramePr/>
          <p:nvPr/>
        </p:nvGraphicFramePr>
        <p:xfrm>
          <a:off x="1355760" y="2108160"/>
          <a:ext cx="6708600" cy="42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2108160"/>
                    <a:ext cx="670860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4"/>
          <p:cNvSpPr/>
          <p:nvPr/>
        </p:nvSpPr>
        <p:spPr>
          <a:xfrm>
            <a:off x="10431360" y="2057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721120" y="4491000"/>
            <a:ext cx="20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e7960"/>
                </a:solidFill>
                <a:latin typeface="Banco"/>
              </a:rPr>
              <a:t>PACIJ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1824480" y="4487760"/>
            <a:ext cx="190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e7960"/>
                </a:solidFill>
                <a:latin typeface="Banco"/>
              </a:rPr>
              <a:t>DOK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RESPIRATORN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ARDIOVASKULAR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GASTROINTESTINAL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ERVNI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OSTALO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piratorni sist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77800" y="2293920"/>
            <a:ext cx="27892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2286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pstrukcija 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Bronhospazam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Laringospazam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Pneumotorax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Edem pluć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979960" y="2813040"/>
            <a:ext cx="27226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2286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Hipoksemija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Hiperkapnija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Hipokapnija</a:t>
            </a:r>
            <a:r>
              <a:rPr b="1" lang="sr-Latn-CS" sz="2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imes New Roman"/>
              </a:rPr>
              <a:t>OPSTRUKCIJA      TUBUS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220920" y="49500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spoljašnji pritisak na tub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ernijacija kaf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perativno pol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722600" y="2174760"/>
            <a:ext cx="304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kr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strano tel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sekret-mukozni če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ovraćajni sadrža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00720" y="2205000"/>
            <a:ext cx="486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prelamanje tubusa-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pomeranje gla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armirani tubus-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ispod konek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nazotrahealni tubus-</a:t>
            </a: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kriv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fabričke greške na tubus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ronhospaza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ano t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ingoskop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onhoskop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itka anestez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kr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ta blokatori I lekovi koji oslobadjaju histam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apija:      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100% O</a:t>
            </a:r>
            <a:r>
              <a:rPr b="1" lang="hr-H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hr-HR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hr-HR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800" spc="-1" strike="noStrike" baseline="-25000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hr-HR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aminofilin, </a:t>
            </a:r>
            <a:br>
              <a:rPr sz="2800"/>
            </a:b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halacioni anest.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br>
              <a:rPr sz="2800"/>
            </a:b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ketamin,</a:t>
            </a:r>
            <a:br>
              <a:rPr sz="2800"/>
            </a:b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adrenal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ringospaza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kr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ano t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lni nadraza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anje barbitur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itka anestezij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ruski postup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apija: asistirana ventilacija, povlacenje mandibule napred I na gore, male doze leptosukc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21:14:57Z</dcterms:created>
  <dc:creator>Info</dc:creator>
  <dc:description/>
  <dc:language>en-US</dc:language>
  <cp:lastModifiedBy>Korisnik</cp:lastModifiedBy>
  <dcterms:modified xsi:type="dcterms:W3CDTF">2020-04-28T17:55:05Z</dcterms:modified>
  <cp:revision>12</cp:revision>
  <dc:subject/>
  <dc:title>Komplikacije u anesteziji</dc:title>
</cp:coreProperties>
</file>